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631-4EB6-403B-B957-E460044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9FD-4400-403B-8DEC-E97B1EA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FDC-3E1C-4C10-B5A9-4FE15927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A16-4799-4116-B4EE-A92FBB73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DC81-1595-49EF-8033-84E283AA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E48-13B0-4DA4-A53F-2E40405A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B74-24EC-48C7-A620-0138F56F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9670-7C0C-4599-9C91-18B1A4E8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5A9-C69F-4EC1-9105-ACFB8D8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C334-3686-4E26-8D82-9409C28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E581-B13B-4DF8-9168-B779BD3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228-7E76-4411-8325-DB16A67A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2AF-C498-46F8-828F-886468B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D0D-7F48-45E9-A68A-6B9D88F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9C51-6476-4AF2-B334-D89D8C7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89D1-0DCB-4F79-AAA4-9941522A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93D-CCAB-40BC-8186-5E183FA3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CB-F555-46F7-A8C7-3FEEC54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C5-0BBC-456A-BF9F-CD78CB5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FD4-BF7B-49FE-86F1-DF76808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0C4-6724-446F-BB47-CE04FA3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B50-B8DE-4EFE-8566-294BFE7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19C-8DD0-4975-9EB1-43B6ACC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287-62C3-4E33-A1DC-04023DF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8B8-34DD-4A06-9164-D4AED0D67CD9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016-65FB-419A-BE61-F6A7C6571C30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 3 -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69339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tt användargränssni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a mottagartyper - ex SNMP, Modbus T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tegrerad larm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Formateringspro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r info på varje larmhändel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ierarkiska prof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Redund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byggd ActiveX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 X - Vägkar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69339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3 plattform gammal (VB6 / VC/C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 plattform C# (WPF?) gränssnitt, C/C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Webservices, fördröjd sändning, ny strukt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egynnelsen -&gt; Nimbus 1 = 9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1 -&gt; Nimbus 2 = 6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imbus 2 -&gt; Nimbus 3 = 35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y plattform,  &gt; 1000 timm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idsaspekt 2013-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3T13:33:14Z</dcterms:modified>
  <cp:revision>6</cp:revision>
  <dc:subject/>
  <dc:title>Nimbus 3 - Features</dc:title>
</cp:coreProperties>
</file>