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B93-BAC3-4DFC-B760-A4B95E99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D8C-9A21-4876-AA77-4706EA04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FC1E-5052-4F0C-ABFB-144E70B1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09B-D33E-4B50-90CD-912B5D6D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3147-E7A7-4096-9418-882CA70A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34E9-0CDA-4A75-A714-E6E10B24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AE9A-65B2-43D9-8650-C9A33FBF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59F8-9894-40FC-BBB5-AB54C84C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AF31-4D75-433E-B9A7-F77B996F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9094-F7A3-4E1C-A7A4-8CC12A01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B9B6-0269-4CC3-8D92-6C21ED78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0A0-DE06-4A5F-947D-2982F109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2D12-C3E6-4292-A138-1FBDCA29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4027-0F22-4C38-A5D6-0460B7C7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16A6-D838-42BB-B4DC-C6A874F6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97C4-A13F-4733-8203-DA00FD44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BD74-B440-469A-95C4-E7DBAD4C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D35-64E7-4DD2-8A3F-37DFCAAC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D4D-89D4-4542-8DD8-9A1D773D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F52B-697B-4889-8CC1-711082AE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869-F5FD-4591-984E-F221FAE2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754-4B78-4273-ABA1-6E9D706A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0E7-0A3B-4E06-A092-1144F03A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C39-FEFA-4EAB-8D06-9DEFD087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1" name=""/>
            <p:cNvSpPr/>
            <p:nvPr/>
          </p:nvSpPr>
          <p:spPr>
            <a:xfrm rot="20940000">
              <a:off x="6934320" y="591984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9140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8282160" y="525780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7062840" y="60199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767720" y="542916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8358120" y="5409720"/>
              <a:ext cx="609840" cy="6098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2209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1907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D28B-4FB3-4407-9175-6742CF475772}" type="slidenum"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380880" y="1600200"/>
            <a:ext cx="8305920" cy="380880"/>
            <a:chOff x="380880" y="1600200"/>
            <a:chExt cx="8305920" cy="380880"/>
          </a:xfrm>
        </p:grpSpPr>
        <p:sp>
          <p:nvSpPr>
            <p:cNvPr id="13" name=""/>
            <p:cNvSpPr/>
            <p:nvPr/>
          </p:nvSpPr>
          <p:spPr>
            <a:xfrm>
              <a:off x="609480" y="18288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80880" y="16002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">
            <a:hlinkClick r:id="" action="ppaction://hlinkshowjump?jump=previousslide"/>
          </p:cNvPr>
          <p:cNvSpPr/>
          <p:nvPr/>
        </p:nvSpPr>
        <p:spPr>
          <a:xfrm>
            <a:off x="78120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nextslide"/>
          </p:cNvPr>
          <p:cNvSpPr/>
          <p:nvPr/>
        </p:nvSpPr>
        <p:spPr>
          <a:xfrm>
            <a:off x="144792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20940000">
            <a:off x="1828800" y="304920"/>
            <a:ext cx="457200" cy="45720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10000" y="171360"/>
            <a:ext cx="419040" cy="41904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56" name=""/>
            <p:cNvSpPr/>
            <p:nvPr/>
          </p:nvSpPr>
          <p:spPr>
            <a:xfrm rot="20940000">
              <a:off x="6934320" y="58435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91400" y="527688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20000">
              <a:off x="8282160" y="518148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20940000">
              <a:off x="7062840" y="594360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76772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320000">
              <a:off x="8358120" y="5333760"/>
              <a:ext cx="60984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 rot="20940000">
            <a:off x="1752480" y="228600"/>
            <a:ext cx="457200" cy="45720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33680" y="19080"/>
            <a:ext cx="419040" cy="41904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320000">
            <a:off x="168120" y="244080"/>
            <a:ext cx="882720" cy="882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71B0-AF05-4394-B348-2198B81AFF1D}" type="slidenum"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720" y="3805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ffcc00"/>
                </a:solidFill>
                <a:latin typeface="Arial"/>
              </a:rPr>
              <a:t>Alarmus 2 Featur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CiCode (Multiprocess) och ctAPI stö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Webservice, larmlista, eventuppdatering, CiC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Länk till Nim2SQ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er features i AlarmClient - ljudfiler, digital u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Diverse bugfixar/workarounds (bl a 6.10 proble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TroSoft_Logga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892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3:04:18Z</dcterms:created>
  <dc:creator>Tomas Rook</dc:creator>
  <dc:description/>
  <dc:language>en-US</dc:language>
  <cp:lastModifiedBy>Tomas Rook</cp:lastModifiedBy>
  <cp:lastPrinted>1995-12-08T18:33:06Z</cp:lastPrinted>
  <dcterms:modified xsi:type="dcterms:W3CDTF">2011-09-13T14:03:17Z</dcterms:modified>
  <cp:revision>9</cp:revision>
  <dc:subject/>
  <dc:title>Nimbus 3 - Features</dc:title>
</cp:coreProperties>
</file>