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2F9-93AF-41F3-81EA-034B9BF3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A8FC-C554-484F-AEA7-E2EF3ADB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753-FE0E-4D10-B9E4-C04E1DB8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D8A-3BAC-428B-80E2-D48DDF8A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D34E-1E44-49B5-9F2F-C57BFFF0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9C0D-42FE-4689-92BC-B9A94099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A59B-F954-4276-BD27-613902C7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3745-D338-45C8-A64A-C1E3061B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FA48-FC73-4DD8-AC89-2501CF76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F484-F72D-4FB9-BEC8-862EFC8F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42C8-C143-4B48-951C-BDC06478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6DF-55F2-41B0-BA0D-D2F61E5C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B3B9-5789-4DC8-9092-1AF34334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68B7-7B8F-4B1A-8F79-3BF589C5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1564-7CE3-417B-A314-1BD8E2D8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6C97-5FF7-4414-8012-710CBB62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0E54-B985-4753-8E86-73965883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836-92E2-472D-8780-66EC42B7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5CB-5B2F-4759-8FE1-6673A88A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80CA-4584-4486-BD32-57DB12F2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A24-5033-4CE9-B7CD-24F79ED3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37B-83CF-4C3F-B3E1-99FBCA45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635-81EC-46E7-B5B5-81F72150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88C-24DA-4599-AFA2-46691BEA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1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209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190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7B47-00B2-4744-A6D3-518C34FAEE2B}" type="slidenum"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380880" y="1600200"/>
            <a:ext cx="8305920" cy="380880"/>
            <a:chOff x="380880" y="1600200"/>
            <a:chExt cx="8305920" cy="380880"/>
          </a:xfrm>
        </p:grpSpPr>
        <p:sp>
          <p:nvSpPr>
            <p:cNvPr id="13" name=""/>
            <p:cNvSpPr/>
            <p:nvPr/>
          </p:nvSpPr>
          <p:spPr>
            <a:xfrm>
              <a:off x="609480" y="18288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0880" y="16002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">
            <a:hlinkClick r:id="" action="ppaction://hlinkshowjump?jump=previousslide"/>
          </p:cNvPr>
          <p:cNvSpPr/>
          <p:nvPr/>
        </p:nvSpPr>
        <p:spPr>
          <a:xfrm>
            <a:off x="78120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nextslide"/>
          </p:cNvPr>
          <p:cNvSpPr/>
          <p:nvPr/>
        </p:nvSpPr>
        <p:spPr>
          <a:xfrm>
            <a:off x="144792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56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8EF9-BED2-4B4A-828A-68EEAD161B6E}" type="slidenum">
              <a:rPr b="0" lang="sv-S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fcc00"/>
                </a:solidFill>
                <a:latin typeface="Arial"/>
              </a:rPr>
              <a:t>Nimbus-2-SQL Featur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Support för SQL samt MySQ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Insert/update formatet helt konfigurerbart för varje typ av händelse (inactive, active, ack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ax fyra olika tabeller (typ ActiveAlarms, HistoricAlar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Lokal disk cache om servern är nere; flertrådad applikation så den inte blir så tröt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Obegränsat antal Nimbus Generic TCP servers/cli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Läsbara loggfiler, kör som tjänst, larmtest, visuellt gränssnitt mm 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TroSoft_Logga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892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3:04:18Z</dcterms:created>
  <dc:creator>Tomas Rook</dc:creator>
  <dc:description/>
  <dc:language>en-US</dc:language>
  <cp:lastModifiedBy>Tomas Rook</cp:lastModifiedBy>
  <cp:lastPrinted>1995-12-08T18:33:06Z</cp:lastPrinted>
  <dcterms:modified xsi:type="dcterms:W3CDTF">2011-09-14T14:14:30Z</dcterms:modified>
  <cp:revision>9</cp:revision>
  <dc:subject/>
  <dc:title>Nimbus 3 - Features</dc:title>
</cp:coreProperties>
</file>